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EAD5-02ED-4F2E-A1A1-974F48E27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4599-B585-41B0-AD58-48F697D81A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A8C-AFF5-4C12-8481-D59CB828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004-577A-4CC2-ABAD-3AE9406E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851-E163-4680-B0FF-5398019B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B965-DFDC-4CEB-B6C6-6A626CC3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32EA-69AF-4894-97D1-EFBF6A7E9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0DFE-2478-4CDF-8025-3F42BBA7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3C47-C18F-4303-84CC-F4A62DFC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9E00-488C-48CB-AC70-AF1EEDA5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5321-81DB-4EBC-856D-45DA3D2F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2D68-FC91-4077-9D70-F5F395D6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EDAC-9F2F-42D1-A0A9-76A8668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44F-E9BA-4BA4-B5AB-CD5131B8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A85B-1140-40E2-A317-86E34836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8C70-3162-4B09-A7EC-5B6526B7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5839-70B5-48E2-B9BE-D263A5DA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4DF7-E4DE-44CA-8572-76923A33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DBDB-A8E0-4225-AEA8-FB4D43CD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4840-2839-429C-9E07-F72C3AE7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600-40A6-4573-82A7-1D949854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578-9180-4E24-A6A5-0127D3CF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5CC6-E25B-4648-8634-3A86C703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6D06-D81E-44A9-811E-20561284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A76-6003-4F17-AACD-1F4C72E0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9D7-A60A-4412-8146-FBFF41A5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9312-F241-40E4-AC60-37A348729BC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0AA5-98FE-462B-B2EF-8582E20630B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5586-0BD1-4F00-8DB1-6E238356C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6200" y="196560"/>
            <a:ext cx="8229600" cy="112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ирование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6" name="Заголовок 1"/>
          <p:cNvSpPr/>
          <p:nvPr/>
        </p:nvSpPr>
        <p:spPr>
          <a:xfrm>
            <a:off x="860400" y="2138400"/>
            <a:ext cx="7456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93680" y="1541520"/>
            <a:ext cx="86868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рган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контроля (надзора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знает декларацию о соответствии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едействительн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 случаях выявлени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х фактов несоответствия продукции обязательным требованиям технических регламент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ых сведений о заявителе и (или) об изготовителе продукции, адресах их места нахождения и (или) осуществления деятельности, в том числе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есте (местах) осуществления деятельности по изготовлению продукции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ларации о соответств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сти сведений и документов, послуживших основанием для подтверждения соответствия продукции обязательным требования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я декларации о соответствии требованиям к декларациям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установленным законодательством Российской Федерации в сфере технического регулирования и (или) правом Евразийского экономического союз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с нарушением установленных процедур обязательного подтверждения соответств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лицом, не включенным в круг заявителей на оценку соответствия по выбранной схеме декларирования, определенный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ехническим регламент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0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7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0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7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0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80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5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14.03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06" name="Объект 2"/>
          <p:cNvGraphicFramePr/>
          <p:nvPr/>
        </p:nvGraphicFramePr>
        <p:xfrm>
          <a:off x="609480" y="1339920"/>
          <a:ext cx="807732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9920"/>
                    <a:ext cx="807732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741240" y="2362320"/>
            <a:ext cx="80661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87880" y="1676520"/>
          <a:ext cx="5630760" cy="449568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094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3000"/>
          </a:bodyPr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ю Правительства РФ от 14.03.2022 N 362 «О введении временного запрета на вывоз зерновых культур за пределы территории Российской Федерации»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5 марта по 30 июня 2022 г. установлен временный запрет на вывоз из Российской Федерации пшеницы и меслина, ржи, ячменя и кукурузы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на основании разовых лицензий на экспорт, выданных Министерством промышленности и торговли Российской Федерации в соответствии с пунктом 7 постановления Правительства Российской Федера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31 декабря 2021 г. N 2595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Белоруссию в рамках Союзного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E12B-FBF2-4D7E-8101-CC1054272C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4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39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8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2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6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9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2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5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8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3-17T09:50:44Z</dcterms:modified>
  <cp:revision>9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